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37.jpeg" ContentType="image/jpeg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11.wmf" ContentType="image/x-wmf"/>
  <Override PartName="/ppt/media/image50.wmf" ContentType="image/x-wmf"/>
  <Override PartName="/ppt/media/image13.wmf" ContentType="image/x-wmf"/>
  <Override PartName="/ppt/media/image51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53.wmf" ContentType="image/x-wmf"/>
  <Override PartName="/ppt/media/image55.wmf" ContentType="image/x-wmf"/>
  <Override PartName="/ppt/media/image32.gif" ContentType="image/gif"/>
  <Override PartName="/ppt/media/image56.jpeg" ContentType="image/jpeg"/>
  <Override PartName="/ppt/media/image41.wmf" ContentType="image/x-wmf"/>
  <Override PartName="/ppt/media/image39.jpeg" ContentType="image/jpeg"/>
  <Override PartName="/ppt/media/image40.wmf" ContentType="image/x-wmf"/>
  <Override PartName="/ppt/media/image34.jpeg" ContentType="image/jpeg"/>
  <Override PartName="/ppt/media/image31.gif" ContentType="image/gi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0.jpeg" ContentType="image/jpeg"/>
  <Override PartName="/ppt/media/image7.wmf" ContentType="image/x-wmf"/>
  <Override PartName="/ppt/media/image36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521-D89E-458F-B854-0FFA5000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FA3-3F41-4429-BAEA-56B875E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3EC-4996-488C-A9D7-8ED56B1A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88D-6979-46A6-97DE-C98E6867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3684-5FC9-40E9-B9F2-FCDFCBF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1145-4D1B-45E2-BE25-484116DE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FA8B-188D-459C-9D34-4DE95A61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FBD9-826A-42EF-8C3A-1503AFA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33AE-D1A7-4818-BEB9-AC117C5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8DE-6FCA-480C-8865-8EE6C8C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1CC3-B83C-4F1F-B271-1BC977C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C16-3168-4F15-AB24-AB4F60FB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5380-DFFF-44B9-AD48-497F0F2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97BF-04D4-47C0-B246-2D96ED6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64D4-0455-4F21-BE43-CA0CA13A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CE4-F0CA-4BA0-9EF0-CB0EE5FF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5384-6142-4385-8E27-17AD6016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B50-68AD-40C3-9E29-29718BA6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671-8399-423F-A903-6FFCB85A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D33-ADD5-44BA-BEBF-85B1124F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415-255F-4692-A37C-4116F671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4D8-E9AC-4F9B-94F5-DB9477F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FC9-7CB1-45B4-AE09-FCB9BD8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B92-C20E-422F-BFC1-9BF4DBE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85AD-912F-4946-8B8E-8BDB0C5850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6A9-D6B9-4768-A51F-5549B7EB97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wmf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JUGEZ LES VERBES!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itre 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verbes en - 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290844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553080" y="4800600"/>
            <a:ext cx="1946520" cy="161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Nous /déjeun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76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nous déjeun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5120" y="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Ils /dîn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3276720" cy="230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1914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251840" y="4335480"/>
            <a:ext cx="1892160" cy="2522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358128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ils dîn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Elles / mang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108920" y="914400"/>
            <a:ext cx="203508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198756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67280" y="4219560"/>
            <a:ext cx="3276720" cy="2638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31240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elles mang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Elle / ache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4896000"/>
            <a:ext cx="2038320" cy="196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84720" y="2057400"/>
            <a:ext cx="3059280" cy="449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981080"/>
            <a:ext cx="68961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elle achè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Ils / coû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176832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105520" y="99072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35268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ils coû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4572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Nous / Pay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2590920" cy="2168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800680" y="5280120"/>
            <a:ext cx="3343320" cy="157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35053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nous pay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tu / aim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1982880" cy="140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415200" y="3200400"/>
            <a:ext cx="27288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28800" y="182880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tu aim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Tu /rigol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2293920" cy="2636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62120" y="472428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tu rigol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Elles /détes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657600" y="4952880"/>
            <a:ext cx="169380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2666880" cy="193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3200400" cy="2322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3276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elles détes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0492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Ils / dans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-152280" y="685800"/>
            <a:ext cx="2035080" cy="2076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371600" y="4800600"/>
            <a:ext cx="1857240" cy="1574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334120" y="4876920"/>
            <a:ext cx="1752480" cy="1708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276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ils dans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je /quit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2590920" cy="3181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7840" y="259092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je quit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Vous / chan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381560" cy="3217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4648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vous chan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Je / invi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3047760" cy="288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45080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41911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J’ invi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On / voyag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114720" cy="217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4038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on voyag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04920"/>
            <a:ext cx="750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6699"/>
                </a:solidFill>
                <a:latin typeface="Comic Sans MS"/>
              </a:rPr>
              <a:t>Vous /nager  </a:t>
            </a:r>
            <a:r>
              <a:rPr b="0" lang="fr-FR" sz="96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fr-FR" sz="5400" spc="-1" strike="noStrike">
                <a:solidFill>
                  <a:srgbClr val="336699"/>
                </a:solidFill>
                <a:latin typeface="Comic Sans MS"/>
              </a:rPr>
              <a:t>(negativ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7920" y="4951440"/>
            <a:ext cx="4456080" cy="1906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124760" y="0"/>
            <a:ext cx="2019240" cy="220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327672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4e00"/>
                </a:solidFill>
                <a:latin typeface="Comic Sans MS"/>
              </a:rPr>
              <a:t>vous </a:t>
            </a:r>
            <a:r>
              <a:rPr b="0" lang="en-US" sz="8000" spc="-1" strike="noStrike">
                <a:solidFill>
                  <a:srgbClr val="336699"/>
                </a:solidFill>
                <a:latin typeface="Comic Sans MS"/>
              </a:rPr>
              <a:t>ne</a:t>
            </a:r>
            <a:r>
              <a:rPr b="0" lang="en-US" sz="8000" spc="-1" strike="noStrike">
                <a:solidFill>
                  <a:srgbClr val="004e00"/>
                </a:solidFill>
                <a:latin typeface="Comic Sans MS"/>
              </a:rPr>
              <a:t> nag</a:t>
            </a:r>
            <a:r>
              <a:rPr b="0" lang="en-US" sz="8000" spc="-1" strike="noStrike">
                <a:solidFill>
                  <a:srgbClr val="cc0000"/>
                </a:solidFill>
                <a:latin typeface="Comic Sans MS"/>
              </a:rPr>
              <a:t>ez </a:t>
            </a:r>
            <a:r>
              <a:rPr b="0" lang="en-US" sz="8000" spc="-1" strike="noStrike">
                <a:solidFill>
                  <a:srgbClr val="336699"/>
                </a:solidFill>
                <a:latin typeface="Comic Sans MS"/>
              </a:rPr>
              <a:t>p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Max et Joe / </a:t>
            </a: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    Jou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574040" y="60948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400800" y="2241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486560" y="4533840"/>
            <a:ext cx="1657440" cy="2324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-304920" y="5078520"/>
            <a:ext cx="1806840" cy="1779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335268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ils jou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0"/>
            <a:ext cx="678168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6699"/>
                </a:solidFill>
                <a:latin typeface="Comic Sans MS"/>
              </a:rPr>
              <a:t>Tu / Parl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336699"/>
                </a:solidFill>
                <a:latin typeface="Comic Sans MS"/>
              </a:rPr>
              <a:t>(nega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765840" y="2286000"/>
            <a:ext cx="2092320" cy="2133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280" y="1905120"/>
            <a:ext cx="1281240" cy="2286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4191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e00"/>
                </a:solidFill>
                <a:latin typeface="Comic Sans MS"/>
              </a:rPr>
              <a:t>Tu </a:t>
            </a:r>
            <a:r>
              <a:rPr b="0" lang="en-US" sz="8000" spc="-1" strike="noStrike">
                <a:solidFill>
                  <a:srgbClr val="336699"/>
                </a:solidFill>
                <a:latin typeface="Comic Sans MS"/>
              </a:rPr>
              <a:t>ne</a:t>
            </a:r>
            <a:r>
              <a:rPr b="0" lang="en-US" sz="8000" spc="-1" strike="noStrike">
                <a:solidFill>
                  <a:srgbClr val="004e00"/>
                </a:solidFill>
                <a:latin typeface="Comic Sans MS"/>
              </a:rPr>
              <a:t> parl</a:t>
            </a:r>
            <a:r>
              <a:rPr b="0" lang="en-US" sz="8000" spc="-1" strike="noStrike">
                <a:solidFill>
                  <a:srgbClr val="cc0000"/>
                </a:solidFill>
                <a:latin typeface="Comic Sans MS"/>
              </a:rPr>
              <a:t>es</a:t>
            </a:r>
            <a:r>
              <a:rPr b="0" lang="en-US" sz="80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336699"/>
                </a:solidFill>
                <a:latin typeface="Comic Sans MS"/>
              </a:rPr>
              <a:t>pas</a:t>
            </a:r>
            <a:r>
              <a:rPr b="0" lang="en-US" sz="8000" spc="-1" strike="noStrike">
                <a:solidFill>
                  <a:srgbClr val="004e00"/>
                </a:solidFill>
                <a:latin typeface="Comic Sans MS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6699"/>
                </a:solidFill>
                <a:latin typeface="Comic Sans MS"/>
              </a:rPr>
              <a:t>Nous /Ador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484360" cy="258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391520" y="4952880"/>
            <a:ext cx="1571400" cy="1590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3886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nous ador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04920"/>
            <a:ext cx="845820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6699"/>
                </a:solidFill>
                <a:latin typeface="Comic Sans MS"/>
              </a:rPr>
              <a:t>Il / Poser </a:t>
            </a:r>
            <a:r>
              <a:rPr b="0" lang="fr-FR" sz="4400" spc="-1" strike="noStrike">
                <a:solidFill>
                  <a:srgbClr val="336699"/>
                </a:solidFill>
                <a:latin typeface="Comic Sans MS"/>
              </a:rPr>
              <a:t>(negative) </a:t>
            </a:r>
            <a:r>
              <a:rPr b="0" lang="fr-FR" sz="6600" spc="-1" strike="noStrike">
                <a:solidFill>
                  <a:srgbClr val="336699"/>
                </a:solidFill>
                <a:latin typeface="Comic Sans MS"/>
              </a:rPr>
              <a:t>une ques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96080" y="4038480"/>
            <a:ext cx="1336680" cy="2667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3276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Il </a:t>
            </a: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ne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pos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p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304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6699"/>
                </a:solidFill>
                <a:latin typeface="Comic Sans MS"/>
              </a:rPr>
              <a:t>Vous / cherch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1830240" cy="2295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372440" y="4379760"/>
            <a:ext cx="1771560" cy="247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3581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Vous cherch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4096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99"/>
                </a:solidFill>
                <a:latin typeface="Comic Sans MS"/>
              </a:rPr>
              <a:t>Je / Passer (un examen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956280" y="4343400"/>
            <a:ext cx="2187720" cy="2362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35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Je pass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je / arri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276840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51460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j’arriv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304920"/>
            <a:ext cx="914400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On / Passer </a:t>
            </a:r>
            <a:r>
              <a:rPr b="0" lang="en-US" sz="6600" spc="-1" strike="noStrike">
                <a:solidFill>
                  <a:srgbClr val="336699"/>
                </a:solidFill>
                <a:latin typeface="Comic Sans MS"/>
              </a:rPr>
              <a:t>(la journée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2743200" cy="274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3886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On pass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7 -0.04422 L 0.31667 -0.37755 E">
                                      <p:cBhvr>
                                        <p:cTn id="19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7 -0.37754 L 0.75833 0.01134 E">
                                      <p:cBhvr>
                                        <p:cTn id="19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Nous / visi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684520" cy="3571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90720" y="44197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nous visi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152280"/>
            <a:ext cx="800100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6699"/>
                </a:solidFill>
                <a:latin typeface="Comic Sans MS"/>
              </a:rPr>
              <a:t>Je / Habi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336699"/>
                </a:solidFill>
                <a:latin typeface="Comic Sans MS"/>
              </a:rPr>
              <a:t>(negative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58000" y="1600200"/>
            <a:ext cx="2057400" cy="1760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3886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Je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3366"/>
                </a:solidFill>
                <a:latin typeface="Comic Sans MS"/>
              </a:rPr>
              <a:t>n’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habi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 </a:t>
            </a:r>
            <a:r>
              <a:rPr b="0" lang="en-US" sz="9600" spc="-1" strike="noStrike">
                <a:solidFill>
                  <a:srgbClr val="003366"/>
                </a:solidFill>
                <a:latin typeface="Comic Sans MS"/>
              </a:rPr>
              <a:t>p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80880"/>
            <a:ext cx="1043928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e00"/>
                </a:solidFill>
                <a:latin typeface="Comic Sans MS"/>
              </a:rPr>
              <a:t>Elles /surfer </a:t>
            </a:r>
            <a:r>
              <a:rPr b="0" lang="fr-FR" sz="6600" spc="-1" strike="noStrike">
                <a:solidFill>
                  <a:srgbClr val="004e00"/>
                </a:solidFill>
                <a:latin typeface="Comic Sans MS"/>
              </a:rPr>
              <a:t>(negative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4520" y="4267080"/>
            <a:ext cx="2949480" cy="2397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3276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elles </a:t>
            </a:r>
            <a:r>
              <a:rPr b="0" lang="en-US" sz="9600" spc="-1" strike="noStrike">
                <a:solidFill>
                  <a:srgbClr val="003366"/>
                </a:solidFill>
                <a:latin typeface="Comic Sans MS"/>
              </a:rPr>
              <a:t>ne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surf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 </a:t>
            </a:r>
            <a:r>
              <a:rPr b="0" lang="en-US" sz="9600" spc="-1" strike="noStrike">
                <a:solidFill>
                  <a:srgbClr val="003366"/>
                </a:solidFill>
                <a:latin typeface="Comic Sans MS"/>
              </a:rPr>
              <a:t>pa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93876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43000" y="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vous /entr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59092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vous entr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Nous /rentr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350820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0400" y="4800600"/>
            <a:ext cx="1143000" cy="16765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981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nous rentr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Il / travaill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24680" y="3809880"/>
            <a:ext cx="3019320" cy="3048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243828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il travaill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Tu / étudi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654520" y="3276720"/>
            <a:ext cx="3489480" cy="358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190512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tu étudi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Vous / écou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2862360" cy="2895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vous écout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99"/>
                </a:solidFill>
                <a:latin typeface="Comic Sans MS"/>
              </a:rPr>
              <a:t>Je / regard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2590560" cy="257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4038480"/>
            <a:ext cx="68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 </a:t>
            </a:r>
            <a:r>
              <a:rPr b="0" lang="en-US" sz="9600" spc="-1" strike="noStrike">
                <a:solidFill>
                  <a:srgbClr val="004e00"/>
                </a:solidFill>
                <a:latin typeface="Comic Sans MS"/>
              </a:rPr>
              <a:t>je regard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9:10:08Z</dcterms:created>
  <dc:creator>SDW</dc:creator>
  <dc:description/>
  <dc:language>en-US</dc:language>
  <cp:lastModifiedBy>SDW</cp:lastModifiedBy>
  <dcterms:modified xsi:type="dcterms:W3CDTF">2010-10-30T17:01:11Z</dcterms:modified>
  <cp:revision>19</cp:revision>
  <dc:subject/>
  <dc:title>Les cartes éclai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85098448</vt:r8>
  </property>
  <property fmtid="{D5CDD505-2E9C-101B-9397-08002B2CF9AE}" pid="3" name="_AuthorEmail">
    <vt:lpwstr>lbayer@waukesha.k12.wi.us</vt:lpwstr>
  </property>
  <property fmtid="{D5CDD505-2E9C-101B-9397-08002B2CF9AE}" pid="4" name="_AuthorEmailDisplayName">
    <vt:lpwstr>Bayer, Lindsay</vt:lpwstr>
  </property>
  <property fmtid="{D5CDD505-2E9C-101B-9397-08002B2CF9AE}" pid="5" name="_EmailSubject">
    <vt:lpwstr>Voici le powerpoint!</vt:lpwstr>
  </property>
  <property fmtid="{D5CDD505-2E9C-101B-9397-08002B2CF9AE}" pid="6" name="_ReviewingToolsShownOnce">
    <vt:lpwstr/>
  </property>
</Properties>
</file>